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CAMERA.WAV" ContentType="audio/x-wav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0B4C-5DA7-4C10-944A-91C645FFCA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t ribs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limbs, wasted butt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se, fragi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uberant be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 activity, apa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l, vacant st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weight (2 S.D. below me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171-E356-4BEB-9E25-527B2B92B4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udy of hospitalized pts resulted in only 1.4% of tests being of diagnostic assistance in F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0C50-9115-4A78-9CAA-E56E1CB9C2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016-83FE-47A2-A3B7-3C14F644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186-ED76-4B6B-93CD-8A21D3D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91E-CA21-4B69-8731-4ED41CD8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4D7-2171-4896-AF32-E37835D9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BE18-81B2-42F0-9ECF-3CF195C7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B470-AFEF-4CC2-9E2F-978D11B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3A03-98E8-454A-BBC6-3E366D0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0ED8-DF2A-4542-842B-920F958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7976-FAA1-4385-886F-94E082CA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DEF4-6C8C-4A6F-9202-8F3DBC3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730-62C4-4B25-A23D-2A2CA8E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509-DFA4-4510-81AB-BF15E4F5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7FA-5E97-43AB-B2B7-488CB28F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E277-A290-403E-99D7-1051AF0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E323-B4FE-46FB-A79E-86380C4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2C2B-8F16-477C-B457-E5593D4C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714-2A30-45F0-BD38-00778C32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88087-17E3-497B-9ECD-147A455B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B8500-F824-4934-9302-330927F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B6A48-AF48-46F1-BB85-563168B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27D1E-2BA4-4E6D-B2DF-CDDA2B7C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E604A-B377-41C6-9E03-DFA222DC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9E1-F767-4EC3-8B96-BE8FABBE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45B9-E529-4547-A7B9-6934603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3DC0F-D627-4A7C-92A9-CADFE8B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C75A1-870B-410F-9025-76867AB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E7411-A38A-4673-AB58-962383B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0307F-39B2-4EF0-9B33-A74377E4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0A80A-549B-4217-AF17-20857FC7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7F063-E307-40DF-8624-B4B488D7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6E799-8630-4065-9980-353EC74D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2A02C-4019-41FC-B80C-2D51DC9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85CEC-A7A0-4FED-9B72-4BAB931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92C-1A88-4E1A-89B9-53CE7B8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6BEFB-57BB-4467-BF23-66C15E09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4DEEA-3546-4328-8A27-C2CBFB5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10565-059B-4A99-BBD5-33E96951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5ADF7-34FE-4163-902A-B0C08D0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DA967-A27B-4E8D-9B72-DF2BC4B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2CC2E-53CD-46E7-B1D8-A3B7601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325A4-FEB9-4520-A76C-C287A37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DB8B3-45C3-43C9-ABAD-321D6663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6F3D6-3F7E-4E59-99BE-2C1260F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F62BA-AB08-4115-B1A4-7385EC31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2A8-0EFC-4AF3-B7C5-EF6A975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59666-9BA1-450D-B229-D56A34F4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25826-88B9-4B48-BFF9-2B541CB2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D69BF-8E3B-4147-A0D3-F28C237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C9E3C-6BBC-4E8C-8BFA-B5633824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0066E-4291-4725-8AB7-22F332CA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526FD-1239-4B2A-803C-BDADFB5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012E2-81D1-47E8-BD5E-D53F8B5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94D7C-157E-42F3-96FC-B3827F8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04DEA-62CC-4EEB-8868-D5264A8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4C3F6-66F8-4E26-9E8F-48984562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F33-E1AA-47A0-9FBD-694DD4B6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1510A-9CF1-4E06-B553-66354764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5249-7A11-4D6B-AFC0-8A20E0A5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A681-989F-4D7A-8191-3BBD0643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CF5E-46AA-4334-B3BF-BD5ADF3E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DD35-D8D7-4E76-A001-AC94924F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8CE00-213C-4B46-AD73-471E96E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4CF8-29C4-4A4D-B021-2C7C798B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60E3-5D0B-48F2-A616-823AE7C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8C73-90D1-4604-B9E4-DA38CA6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2DE9-D820-4C3C-BDE5-46C57CD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73A-D0DB-411F-88F6-35C5C0C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9AC8D-F03B-4772-A81E-A38C5C4E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F7EE-73A3-4A60-906D-6683E470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A4A8-F364-4E34-9D82-3AA5C6EC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1403A-9014-4DC7-872E-3E32A51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C3002-3D94-4BCA-9937-4B53C7A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78FA3-2E40-4721-AE7A-377F54E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14C51-642A-41AB-9BB7-D72A495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21E07-D046-4B2E-A9F7-7C67CB0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51026-6A99-41FD-8AF9-94E5C595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A9B96-2AEE-4D68-B3B0-95E4D35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602-78F3-44B6-B4CC-017E1AE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DB9FF-8155-4E7B-8640-FF3BBBD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ADB7A-62A0-4738-89B2-2019DE4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631C9-44DB-494C-8DA1-235DC0F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FB494-D4B5-42AC-B46C-2A565584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9F636-7C31-4936-A806-EBE8038F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975A-A935-4280-8131-DD7F5B6E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132AF-110B-4D49-BC21-CD7F5C1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9CE7D-D0EB-4C27-8C64-624C96FF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3D9F6-A600-41E6-8057-5B30FBCE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52B0-BE91-4D43-A3EB-BAF4FD08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930-B194-434D-A8F6-CDA5B6C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784F-7FFB-4C5E-A984-53CB27A4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074FD-EF9F-414B-8074-3E61683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DC7D-E020-49A2-BA76-632C01A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BC4A0-84A3-42A2-A637-A3B0ABA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B984-DDE4-4D45-AA5E-33F7702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7C0D-2741-48F6-A49D-65F3C121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83F7A-FCE9-439A-89BE-61240F2A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137-6AC1-457B-B9F5-BFDA89178EE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602-EC82-4F1B-990F-6BC98B1A90CA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EA7-5C53-4C69-AC3B-D36C88222BC2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02E-A843-4CF2-B048-0136F16AB81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59E7-0246-4689-951E-B6A12FF2A2B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7CD6-850D-45BD-8AB5-5CC05A2D147C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4D7-5C21-410E-878E-43EBBF33DE74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74D3-E586-45C0-95B7-C0B051E8E8B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Tw Cen MT"/>
                <a:ea typeface="Times New Roman"/>
              </a:rPr>
              <a:t>EVALUATING A CHILD WITH FAILURE TO THRIVE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35344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r. Husam S Islam M.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ed. Gastroenterologist &amp; Hepatologi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King Saud Medical City , Children hospital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Riyadh Kingdom of Saudi Arabi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Increased metabolis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inf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genital heart dis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lung dis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Other consider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enetic abnormalities, congenital infections, metabolic disorders (storage diseases, amino acid disorder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curately plotting growth charts at every visit is recommended*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the tre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&amp;P more important than la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cases in primary care setting are psychosocial or nonorganic in eti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etar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eep a food di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f formula fed, is it being prepared correctly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en, where, with whom does the child ea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M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llnesses, hospitalizations, reflux, vomiting, stools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o lives in the home, family stressors, poverty, drugs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edical condition (or FTT) in siblings, mental illness, stature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gnancy/Bir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bstance abuse? postpartum depression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nges in growth due to FT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rly fin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te findin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ad circumfer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536840" y="1863720"/>
            <a:ext cx="3408120" cy="4765680"/>
          </a:xfrm>
          <a:prstGeom prst="rect">
            <a:avLst/>
          </a:prstGeom>
          <a:ln w="0">
            <a:noFill/>
          </a:ln>
        </p:spPr>
      </p:pic>
      <p:sp>
        <p:nvSpPr>
          <p:cNvPr id="384" name="Oval 4"/>
          <p:cNvSpPr/>
          <p:nvPr/>
        </p:nvSpPr>
        <p:spPr>
          <a:xfrm>
            <a:off x="2103480" y="44593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2013120" y="4519440"/>
            <a:ext cx="5868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1927080" y="4638600"/>
            <a:ext cx="5904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1851120" y="49165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3809880" y="331776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733920" y="345456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3673440" y="36259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3611520" y="37512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3911760" y="52578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3624120" y="5516640"/>
            <a:ext cx="5904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073400" y="5135400"/>
            <a:ext cx="5904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16"/>
          <p:cNvSpPr/>
          <p:nvPr/>
        </p:nvSpPr>
        <p:spPr>
          <a:xfrm>
            <a:off x="4533840" y="49626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1774800" y="5127480"/>
            <a:ext cx="5868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25"/>
          <p:cNvGrpSpPr/>
          <p:nvPr/>
        </p:nvGrpSpPr>
        <p:grpSpPr>
          <a:xfrm>
            <a:off x="6330960" y="1243080"/>
            <a:ext cx="2448000" cy="3862440"/>
            <a:chOff x="6330960" y="1243080"/>
            <a:chExt cx="2448000" cy="3862440"/>
          </a:xfrm>
        </p:grpSpPr>
        <p:pic>
          <p:nvPicPr>
            <p:cNvPr id="398" name="Picture 19" descr=""/>
            <p:cNvPicPr/>
            <p:nvPr/>
          </p:nvPicPr>
          <p:blipFill>
            <a:blip r:embed="rId2"/>
            <a:stretch/>
          </p:blipFill>
          <p:spPr>
            <a:xfrm>
              <a:off x="6330960" y="1243080"/>
              <a:ext cx="244800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Oval 20"/>
            <p:cNvSpPr/>
            <p:nvPr/>
          </p:nvSpPr>
          <p:spPr>
            <a:xfrm>
              <a:off x="7823160" y="2421000"/>
              <a:ext cx="224280" cy="15408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21"/>
            <p:cNvSpPr/>
            <p:nvPr/>
          </p:nvSpPr>
          <p:spPr>
            <a:xfrm>
              <a:off x="7467120" y="2575080"/>
              <a:ext cx="231120" cy="15408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22"/>
            <p:cNvSpPr/>
            <p:nvPr/>
          </p:nvSpPr>
          <p:spPr>
            <a:xfrm>
              <a:off x="7137000" y="2883240"/>
              <a:ext cx="238680" cy="14436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Oval 23"/>
            <p:cNvSpPr/>
            <p:nvPr/>
          </p:nvSpPr>
          <p:spPr>
            <a:xfrm>
              <a:off x="6845040" y="3591000"/>
              <a:ext cx="222480" cy="14940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Oval 24"/>
            <p:cNvSpPr/>
            <p:nvPr/>
          </p:nvSpPr>
          <p:spPr>
            <a:xfrm>
              <a:off x="6562440" y="4138920"/>
              <a:ext cx="207360" cy="14904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rowth charts of an 8 month old boy with Non-organic FTT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Oval 27"/>
          <p:cNvSpPr/>
          <p:nvPr/>
        </p:nvSpPr>
        <p:spPr>
          <a:xfrm>
            <a:off x="1542960" y="4464000"/>
            <a:ext cx="846360" cy="1287360"/>
          </a:xfrm>
          <a:prstGeom prst="ellipse">
            <a:avLst/>
          </a:prstGeom>
          <a:noFill/>
          <a:ln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411280" y="3257280"/>
            <a:ext cx="3668760" cy="1787400"/>
          </a:xfrm>
          <a:prstGeom prst="line">
            <a:avLst/>
          </a:prstGeom>
          <a:ln w="507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29"/>
          <p:cNvSpPr/>
          <p:nvPr/>
        </p:nvSpPr>
        <p:spPr>
          <a:xfrm>
            <a:off x="6253200" y="1311120"/>
            <a:ext cx="2593800" cy="3876840"/>
          </a:xfrm>
          <a:prstGeom prst="ellipse">
            <a:avLst/>
          </a:prstGeom>
          <a:noFill/>
          <a:ln w="1015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hysic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t, Ht, HC with the growth cha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ystemic ex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s of neglect or ab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appropriate behavi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hysic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serve parent-child inte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pecially during a feeding s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ow is food or formula prepared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ral motor or swallowing difficulty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dequate time allowed for feeding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o they cuddle the infant during feeds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TV or anything else causing a distraction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5f55"/>
                </a:solidFill>
                <a:latin typeface="Tw Cen MT"/>
              </a:rPr>
              <a:t>Physical Indications of</a:t>
            </a:r>
            <a:br>
              <a:rPr sz="2200"/>
            </a:br>
            <a:r>
              <a:rPr b="0" lang="en-US" sz="2200" spc="-1" strike="noStrike">
                <a:solidFill>
                  <a:srgbClr val="775f55"/>
                </a:solidFill>
                <a:latin typeface="Tw Cen MT"/>
              </a:rPr>
              <a:t>Non-organic FTT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ck of age appropriate eye contact, smiling, vocalization, or interest in environ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diaper rash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e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 occi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or hyge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ru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c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1150920" y="1219320"/>
            <a:ext cx="799308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b05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Hx &amp; exam is 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ly to find a ca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I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65a3c"/>
                </a:solidFill>
                <a:latin typeface="Times New Roman"/>
              </a:rPr>
              <a:t>NO FI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II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Guided  by finding Hx and ex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work u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*  CBC-d + E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Electrolyte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Urine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Stool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Bone pro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investigations</a:t>
            </a:r>
            <a:r>
              <a:rPr b="0" lang="en-US" sz="2000" spc="-1" strike="noStrike">
                <a:solidFill>
                  <a:srgbClr val="b79339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b7933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8ab052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3116160" y="3733920"/>
            <a:ext cx="406440" cy="380880"/>
          </a:xfrm>
          <a:prstGeom prst="rect">
            <a:avLst/>
          </a:prstGeom>
          <a:solidFill>
            <a:srgbClr val="94b6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182760" y="5373720"/>
            <a:ext cx="406440" cy="431640"/>
          </a:xfrm>
          <a:prstGeom prst="rect">
            <a:avLst/>
          </a:prstGeom>
          <a:solidFill>
            <a:srgbClr val="94b6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1084320" y="304920"/>
            <a:ext cx="6297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b052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65a3c"/>
                </a:solidFill>
                <a:latin typeface="Times New Roman"/>
              </a:rPr>
              <a:t>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5a3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744480" y="1066680"/>
            <a:ext cx="751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68360" y="838080"/>
            <a:ext cx="79311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5a3c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gent problems   e.g.  electrolyte ,                                                           infection,  dehyd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Nutritional rehabil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 up growth requir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ition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o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t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692280"/>
            <a:ext cx="81532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oal is “catch-up” weight gain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st cases can be managed with nutrition intervention and/or feeding behavior modific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l principl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igh Calorie Di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ose Follow-u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eep a prospective feeding diary-72 hou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ergy intake should be 50% greater than the basal caloric requirem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centrate formula, add rice cere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dd taste pleasing fats to diet (cheese, peanut butter, ice cream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igh calorie milk drinks (Pediasure has 30 cal/oz vs 19 cal per oz in whole mil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ultivitamin with iron and zinc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mit fruit juice to 8-12 oz per da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arental behavior modification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need reassurance to help with their own anxie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ourage, but don’t force, child to e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meals pleasant, regular times, don’t rus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need to schedule meals every 2-3 hou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the child comforta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ourage some variety and cover the basic food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nacks between me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dications for hospital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f7b6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Rarely necess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ight below birth weight at 6 wk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gns of physical abu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ilure of out-patient therap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ypothermia, bradycardia, hypoten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afety is a concer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k-up needed for organic cau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nagement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difficult ca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ltidisciplinary team approach produces better outc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ietitia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cia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ccupational therapis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sychologis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G tube supplementation may be necess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026"/>
          <p:cNvSpPr/>
          <p:nvPr/>
        </p:nvSpPr>
        <p:spPr>
          <a:xfrm>
            <a:off x="3589200" y="609480"/>
            <a:ext cx="264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1027"/>
          <p:cNvSpPr/>
          <p:nvPr/>
        </p:nvSpPr>
        <p:spPr>
          <a:xfrm>
            <a:off x="2709720" y="1523880"/>
            <a:ext cx="44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STORY AND PHYSICAL EXAM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1028"/>
          <p:cNvSpPr/>
          <p:nvPr/>
        </p:nvSpPr>
        <p:spPr>
          <a:xfrm>
            <a:off x="1150920" y="2590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Organic Cause</a:t>
            </a: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1029"/>
          <p:cNvSpPr/>
          <p:nvPr/>
        </p:nvSpPr>
        <p:spPr>
          <a:xfrm>
            <a:off x="4132440" y="2895480"/>
            <a:ext cx="16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Cause Not Obvio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7315200" y="3352680"/>
            <a:ext cx="12873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Feeding Dis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Psychoso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Et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031"/>
          <p:cNvSpPr/>
          <p:nvPr/>
        </p:nvSpPr>
        <p:spPr>
          <a:xfrm>
            <a:off x="1084320" y="4038480"/>
            <a:ext cx="1219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vestig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s Indic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1032"/>
          <p:cNvSpPr/>
          <p:nvPr/>
        </p:nvSpPr>
        <p:spPr>
          <a:xfrm>
            <a:off x="3995640" y="373392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Laboratory Screening 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033"/>
          <p:cNvSpPr/>
          <p:nvPr/>
        </p:nvSpPr>
        <p:spPr>
          <a:xfrm>
            <a:off x="3522600" y="47242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036"/>
          <p:cNvSpPr/>
          <p:nvPr/>
        </p:nvSpPr>
        <p:spPr>
          <a:xfrm>
            <a:off x="5137200" y="47242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037"/>
          <p:cNvSpPr/>
          <p:nvPr/>
        </p:nvSpPr>
        <p:spPr>
          <a:xfrm>
            <a:off x="7294320" y="5334120"/>
            <a:ext cx="16970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Treatment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Multidiscipli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1038"/>
          <p:cNvSpPr/>
          <p:nvPr/>
        </p:nvSpPr>
        <p:spPr>
          <a:xfrm>
            <a:off x="1760400" y="2133720"/>
            <a:ext cx="6164280" cy="0"/>
          </a:xfrm>
          <a:prstGeom prst="line">
            <a:avLst/>
          </a:prstGeom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1039"/>
          <p:cNvSpPr/>
          <p:nvPr/>
        </p:nvSpPr>
        <p:spPr>
          <a:xfrm>
            <a:off x="1760400" y="2133720"/>
            <a:ext cx="0" cy="38088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041"/>
          <p:cNvSpPr/>
          <p:nvPr/>
        </p:nvSpPr>
        <p:spPr>
          <a:xfrm>
            <a:off x="4741920" y="2133720"/>
            <a:ext cx="0" cy="68580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1046"/>
          <p:cNvSpPr/>
          <p:nvPr/>
        </p:nvSpPr>
        <p:spPr>
          <a:xfrm flipH="1">
            <a:off x="2370240" y="4800600"/>
            <a:ext cx="101592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1051"/>
          <p:cNvSpPr/>
          <p:nvPr/>
        </p:nvSpPr>
        <p:spPr>
          <a:xfrm>
            <a:off x="4741920" y="4038480"/>
            <a:ext cx="0" cy="3049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1055"/>
          <p:cNvSpPr/>
          <p:nvPr/>
        </p:nvSpPr>
        <p:spPr>
          <a:xfrm>
            <a:off x="1760400" y="2895480"/>
            <a:ext cx="0" cy="9907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1056"/>
          <p:cNvSpPr/>
          <p:nvPr/>
        </p:nvSpPr>
        <p:spPr>
          <a:xfrm>
            <a:off x="7924680" y="2133720"/>
            <a:ext cx="0" cy="91584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Line 1058"/>
          <p:cNvSpPr/>
          <p:nvPr/>
        </p:nvSpPr>
        <p:spPr>
          <a:xfrm>
            <a:off x="4741920" y="31240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062"/>
          <p:cNvSpPr/>
          <p:nvPr/>
        </p:nvSpPr>
        <p:spPr>
          <a:xfrm>
            <a:off x="3929040" y="4419720"/>
            <a:ext cx="1488960" cy="0"/>
          </a:xfrm>
          <a:prstGeom prst="line">
            <a:avLst/>
          </a:prstGeom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1064"/>
          <p:cNvSpPr/>
          <p:nvPr/>
        </p:nvSpPr>
        <p:spPr>
          <a:xfrm>
            <a:off x="3929040" y="4419720"/>
            <a:ext cx="0" cy="30456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1065"/>
          <p:cNvSpPr/>
          <p:nvPr/>
        </p:nvSpPr>
        <p:spPr>
          <a:xfrm>
            <a:off x="5418000" y="4419720"/>
            <a:ext cx="0" cy="22860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1067"/>
          <p:cNvSpPr/>
          <p:nvPr/>
        </p:nvSpPr>
        <p:spPr>
          <a:xfrm>
            <a:off x="5892840" y="4800600"/>
            <a:ext cx="155736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1068"/>
          <p:cNvSpPr/>
          <p:nvPr/>
        </p:nvSpPr>
        <p:spPr>
          <a:xfrm>
            <a:off x="7924680" y="5029200"/>
            <a:ext cx="0" cy="3049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1070"/>
          <p:cNvSpPr/>
          <p:nvPr/>
        </p:nvSpPr>
        <p:spPr>
          <a:xfrm>
            <a:off x="4741920" y="990720"/>
            <a:ext cx="0" cy="53316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071"/>
          <p:cNvSpPr/>
          <p:nvPr/>
        </p:nvSpPr>
        <p:spPr>
          <a:xfrm>
            <a:off x="3595680" y="685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ANT WHO HAS F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744480" y="1066680"/>
            <a:ext cx="751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09480" y="6858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b052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50920" y="228600"/>
            <a:ext cx="835164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Prognosis of non-organic FT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tardation (15 - 67%)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*School learning (15 - 67%)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*Behavioral disturbance (28 - 48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ersistent disorders of growth  increased susceptibility to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Progn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 the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year of life is omin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/3 children with psychosocial FTT are developmentally delayed and have social and emotional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Variable prognosis in organic FT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620640"/>
            <a:ext cx="8153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</a:rPr>
              <a:t>CONCLUSION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2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TT is a SIGN onl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most important diagnostic method i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&amp; EX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22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The important of Nutrition for the brain             development in the first 2 years of li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op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w Cen MT"/>
              </a:rPr>
              <a:t>6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ake home poi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 of Failure to Thrive involves careful H&amp;P, observation of feeding session, and 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e routine lab or other diagnostic tes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utritional deprivation in the infant and toddler age group can have permanent effects on growth and brain develop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eatment can usually occur by the primary care physician in the outpatient sett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ilure to Thrive (FTT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below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ercentile for age and se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for age curve falls across two major percentile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gain is less than expect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ther definitions exist, but are not superior in predicting problems or long term out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op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w Cen MT"/>
              </a:rPr>
              <a:t>6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ake home poi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sychosocial problems predominate as the causes of FTT in the outpatient set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eatment goal is to increase energy intake to 1.5 times the basal require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arlier intervention may make it easier to break difficult behavior patterns and reduce sequelae from malnutri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A:\gcal_93_4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481800"/>
          </a:xfrm>
          <a:prstGeom prst="rect">
            <a:avLst/>
          </a:prstGeom>
          <a:ln w="9360">
            <a:solidFill>
              <a:srgbClr val="dd8047"/>
            </a:solidFill>
            <a:miter/>
          </a:ln>
        </p:spPr>
      </p:pic>
      <p:sp>
        <p:nvSpPr>
          <p:cNvPr id="467" name="WordArt 5"/>
          <p:cNvSpPr txBox="1"/>
          <p:nvPr/>
        </p:nvSpPr>
        <p:spPr>
          <a:xfrm>
            <a:off x="2979720" y="3657600"/>
            <a:ext cx="325116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TT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ign that describes a problem rather than a diag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cribes failure to gain w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more severe cases length and head circumference can be aff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derlying cause is insufficient usable nutrition to meet the demands for growt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pproximately 25% of normal children will have a shift down in their wt curve , then follow a normal curve -- this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failure to thri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infant popula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mature/IUGR – wt may be less than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ercentile, but if following the growth curve and normal interval growth then FTT should not be diagno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(30%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2º to a disease proc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treatment needed for illn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n-organic (70%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under feeding &amp; psychosocial  disturba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quires a change in the child’s environ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x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re useful classification system 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adequate caloric inta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adequate  absorp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reased energy requireme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Inadequate Caloric Intak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orrect preparation of formu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or feeding habits (ex: too much jui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cal feeding difficulties (reflux, cleft palate, oromotor dysfunction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glec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ysicians are strongly encouraged to consider child abuse and neglect in cases of FTT that don’t respond to appropriate interventions*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65a3c"/>
                </a:solidFill>
                <a:latin typeface="Tw Cen MT"/>
              </a:rPr>
              <a:t>Inadequate absor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eliac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ystic fibros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k aller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itamin deficienc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liary Atres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st-Necrotizing enterocolit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42:59Z</dcterms:created>
  <dc:creator>asus</dc:creator>
  <dc:description/>
  <dc:language>en-US</dc:language>
  <cp:lastModifiedBy>Dr. Husam Isalm</cp:lastModifiedBy>
  <dcterms:modified xsi:type="dcterms:W3CDTF">2017-12-06T07:11:21Z</dcterms:modified>
  <cp:revision>16</cp:revision>
  <dc:subject/>
  <dc:title>Common GI Problems of Infants and Children</dc:title>
</cp:coreProperties>
</file>